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gif" ContentType="image/gif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ECEBE-A180-4937-835C-01E5C542D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872C1-A5E7-4C8D-B25C-0E23BDC13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BB100-50CE-40E1-A43B-B959CA7AA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B0926-6D22-4A0E-8014-7632C5631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BC138-2AA8-49A7-B2A1-5819C50FB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6766C-750A-4D00-99D0-C52A0F3D4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CE56F-56A8-407E-863A-11471A316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96848-7701-4923-AE9D-90B17A115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30570-6660-4706-9FC6-3BD7C28D5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AC244-691C-4A6E-81D0-BA0D69711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00676-C52F-4E02-B3D5-5B48D6B17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1EF97-C4AC-4684-836A-AC9D323CE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9C5A6-FF9B-4C79-8D76-50EA72EA25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roll.wav" TargetMode="External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bomb.wav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y8.com/games/Water_Balloon_Fight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joycone.com/virtualcone/default.asp" TargetMode="Externa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>
            <a:hlinkClick r:id="" action="ppaction://hlinkshowjump?jump=nextslide"/>
            <a:hlinkClick r:id="rId1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38f43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y goodbye to summer, but not to good ti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447920" y="3124080"/>
            <a:ext cx="5867280" cy="146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Summer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3352680" y="1295280"/>
            <a:ext cx="266724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66"/>
                  </a:solidFill>
                  <a:miter/>
                </a:ln>
                <a:solidFill>
                  <a:srgbClr val="00ccff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Last Day of</a:t>
            </a:r>
            <a:endParaRPr b="0" lang="en-US" sz="1800" spc="1" strike="noStrike">
              <a:ln w="9360">
                <a:solidFill>
                  <a:srgbClr val="ffff66"/>
                </a:solidFill>
                <a:miter/>
              </a:ln>
              <a:solidFill>
                <a:srgbClr val="00ccff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>
            <a:hlinkClick r:id="" action="ppaction://hlinkshowjump?jump=nextslide"/>
            <a:hlinkClick r:id="rId1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3439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R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Keep Qui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You may wear headphones if there is s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Ask if you have any qu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Most import of all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3200400" y="4952880"/>
            <a:ext cx="30481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Have Fun!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ter Balloon Fight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Water Balloon Throw And Hit Clip Ar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1752480"/>
            <a:ext cx="25272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ke an Ice Cream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Ice Cream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48120" y="2133720"/>
            <a:ext cx="2895480" cy="259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914400" y="1066680"/>
            <a:ext cx="7467480" cy="381024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236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RPRIZE!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43000" y="487692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ime to get a real ice cream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33520" y="76320"/>
            <a:ext cx="7997760" cy="67118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 txBox="1"/>
          <p:nvPr/>
        </p:nvSpPr>
        <p:spPr>
          <a:xfrm>
            <a:off x="1600200" y="2743200"/>
            <a:ext cx="5867280" cy="1425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olouring pages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9T22:37:10Z</dcterms:created>
  <dc:creator>Joseph O'Gorman</dc:creator>
  <dc:description/>
  <dc:language>en-US</dc:language>
  <cp:lastModifiedBy>jo'gorman</cp:lastModifiedBy>
  <dcterms:modified xsi:type="dcterms:W3CDTF">2010-09-16T22:30:55Z</dcterms:modified>
  <cp:revision>7</cp:revision>
  <dc:subject/>
  <dc:title>Last Day of</dc:title>
</cp:coreProperties>
</file>